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DB07-477E-4884-BCDB-9BE99E1A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1EFB-5E9C-4FCF-A90F-93B008A6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F4A8-E531-4129-87E6-0C5E3494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48BE-20ED-42D9-AC1F-A43A472A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FFC5-DB04-46AF-8FEF-FB08DBA4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0949-0F9F-4EB2-BC55-E83BD585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5B89-808A-4AE2-86AE-20603211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612A-1131-41F0-9B7D-288E54DC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5A89-BEC0-422A-8997-384D4ACE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3B40-1ED8-4161-89C2-F8E181A3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9BBA-980D-4EC6-82D4-B607B82C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A378-1C28-4882-B927-D32EB40B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8068-4635-4FF0-BD01-49845DC95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8.xml"/><Relationship Id="rId3" Type="http://schemas.openxmlformats.org/officeDocument/2006/relationships/slide" Target=""/><Relationship Id="rId4" Type="http://schemas.openxmlformats.org/officeDocument/2006/relationships/slide" Target="slide13.xml"/><Relationship Id="rId5" Type="http://schemas.openxmlformats.org/officeDocument/2006/relationships/slide" Target=""/><Relationship Id="rId6" Type="http://schemas.openxmlformats.org/officeDocument/2006/relationships/slide" Target="slide9.xml"/><Relationship Id="rId7" Type="http://schemas.openxmlformats.org/officeDocument/2006/relationships/slide" Target=""/><Relationship Id="rId8" Type="http://schemas.openxmlformats.org/officeDocument/2006/relationships/slide" Target="slide19.xml"/><Relationship Id="rId9" Type="http://schemas.openxmlformats.org/officeDocument/2006/relationships/slide" Target=""/><Relationship Id="rId10" Type="http://schemas.openxmlformats.org/officeDocument/2006/relationships/slide" Target="slide6.xml"/><Relationship Id="rId11" Type="http://schemas.openxmlformats.org/officeDocument/2006/relationships/slide" Target=""/><Relationship Id="rId12" Type="http://schemas.openxmlformats.org/officeDocument/2006/relationships/slide" Target="slide11.xml"/><Relationship Id="rId13" Type="http://schemas.openxmlformats.org/officeDocument/2006/relationships/slide" Target=""/><Relationship Id="rId14" Type="http://schemas.openxmlformats.org/officeDocument/2006/relationships/slide" Target="slide20.xml"/><Relationship Id="rId15" Type="http://schemas.openxmlformats.org/officeDocument/2006/relationships/slide" Target=""/><Relationship Id="rId16" Type="http://schemas.openxmlformats.org/officeDocument/2006/relationships/slide" Target="slide21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5.xml"/><Relationship Id="rId20" Type="http://schemas.openxmlformats.org/officeDocument/2006/relationships/slide" Target=""/><Relationship Id="rId21" Type="http://schemas.openxmlformats.org/officeDocument/2006/relationships/slide" Target="slide10.xml"/><Relationship Id="rId22" Type="http://schemas.openxmlformats.org/officeDocument/2006/relationships/slide" Target=""/><Relationship Id="rId23" Type="http://schemas.openxmlformats.org/officeDocument/2006/relationships/slide" Target="slide15.xml"/><Relationship Id="rId24" Type="http://schemas.openxmlformats.org/officeDocument/2006/relationships/slide" Target=""/><Relationship Id="rId25" Type="http://schemas.openxmlformats.org/officeDocument/2006/relationships/slide" Target="slide14.xml"/><Relationship Id="rId26" Type="http://schemas.openxmlformats.org/officeDocument/2006/relationships/slide" Target=""/><Relationship Id="rId27" Type="http://schemas.openxmlformats.org/officeDocument/2006/relationships/slide" Target="slide16.xml"/><Relationship Id="rId28" Type="http://schemas.openxmlformats.org/officeDocument/2006/relationships/slide" Target=""/><Relationship Id="rId29" Type="http://schemas.openxmlformats.org/officeDocument/2006/relationships/slide" Target="slide4.xml"/><Relationship Id="rId30" Type="http://schemas.openxmlformats.org/officeDocument/2006/relationships/slide" Target="slide6.xml"/><Relationship Id="rId31" Type="http://schemas.openxmlformats.org/officeDocument/2006/relationships/slide" Target="slide18.xml"/><Relationship Id="rId32" Type="http://schemas.openxmlformats.org/officeDocument/2006/relationships/slide" Target=""/><Relationship Id="rId33" Type="http://schemas.openxmlformats.org/officeDocument/2006/relationships/slide" Target="slide7.xml"/><Relationship Id="rId34" Type="http://schemas.openxmlformats.org/officeDocument/2006/relationships/slide" Target=""/><Relationship Id="rId35" Type="http://schemas.openxmlformats.org/officeDocument/2006/relationships/slide" Target="slide12.xml"/><Relationship Id="rId36" Type="http://schemas.openxmlformats.org/officeDocument/2006/relationships/slide" Target=""/><Relationship Id="rId37" Type="http://schemas.openxmlformats.org/officeDocument/2006/relationships/slide" Target="slide17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ton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335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183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eet is a type of precipitation falls from the sky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rozen form but melts upon hitting the surface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“frozen raindrops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il is produced because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nse thunderstorm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228600"/>
            <a:ext cx="716292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type of precipitation is often the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intense thunderstor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uper cool 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48000" y="1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5480" y="2711520"/>
            <a:ext cx="677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ype of precipitation exists in liquid form but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emperature below freezing. It will freeze on 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lizzard is a storm associ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low temperatures, strong winds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vy blowing snow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 blizz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storm associated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avy rain along with light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thun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228600"/>
            <a:ext cx="71629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a thunderstor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ornado. This storm is associated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tating column that causes much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it hit the ear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15228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torm commonly seen in the Midwestern st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clones are large revolving  tropical sto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used by winds blow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ound a central area of low atmospheric press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304920"/>
            <a:ext cx="71629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are cyclon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onsoon is a wind current in southern Asia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uses heavy rains and w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228600"/>
            <a:ext cx="71629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monso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hermometer measur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ypically contains alcohol or mercury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228600"/>
            <a:ext cx="7162920" cy="5205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a thermome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ain gauge measures the amou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n that has fallen over a peri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380880"/>
            <a:ext cx="7086600" cy="5205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a rain gau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13372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0"/>
            <a:ext cx="190512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cip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0"/>
            <a:ext cx="20574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0"/>
            <a:ext cx="2362320" cy="1078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ath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str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eather balloon is us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weather conditions hig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 in the atmosphere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304920"/>
            <a:ext cx="716292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 weather ballo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arometer measures 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sure. It tells whether the pressure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ing or rising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28600"/>
            <a:ext cx="708660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 barome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anemometer measur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in spe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0"/>
            <a:ext cx="6477120" cy="13230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n anemo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rus clouds are thin 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p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igh in the sk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cirrus clou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914400"/>
            <a:ext cx="7543800" cy="4038480"/>
          </a:xfrm>
          <a:prstGeom prst="wedgeRectCallout">
            <a:avLst>
              <a:gd name="adj1" fmla="val -17634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mulus clouds are referred to 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ir weather clouds” they l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lot like cotton balls in the sk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 a cloud associated with fair wea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52280"/>
            <a:ext cx="708660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stratus clou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46680" y="2133720"/>
            <a:ext cx="6375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se clouds are low form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are referred to as “b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ather clouds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990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28600"/>
            <a:ext cx="723888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clouds made of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5238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ouds are made of a mill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roplets of water and i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0833"/>
              <a:gd name="adj2" fmla="val 1701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clouds form high in the 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look a lot like fl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uc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28600"/>
            <a:ext cx="716292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lenticular clou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560" y="22096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in is a type of precipi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t falls from the earth in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quid fo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228600"/>
            <a:ext cx="716256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r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28600"/>
            <a:ext cx="7238880" cy="7034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s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96080" y="2384280"/>
            <a:ext cx="599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ow is a type of precipitation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s from the earth in a solid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22:24:17Z</dcterms:created>
  <dc:creator>Jerry Myers</dc:creator>
  <dc:description>Created by Jerry Myers is 1998 for a class.</dc:description>
  <dc:language>en-US</dc:language>
  <cp:lastModifiedBy> </cp:lastModifiedBy>
  <dcterms:modified xsi:type="dcterms:W3CDTF">2009-03-17T22:25:03Z</dcterms:modified>
  <cp:revision>72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